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E126-4B58-47BC-8A4A-4DBB16F85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CDAA-EA16-4E1B-8598-08CC658FB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3219-3C04-4D9A-854E-1AB7FA79C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EF71-3756-4EA5-9221-DBEEA51AE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65A4-8331-4579-A106-763F2A71C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7A4F-6AF3-49F7-982E-9D906582D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9131-95D2-43CE-8A98-3FDADAE68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93E5-D455-42F8-B70F-1E63A430B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C90A-A629-416E-875B-A4EECBC96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C3DE-4E25-4B5A-B202-300D5FC24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859D-1BB2-4D9E-AE0B-A2C667A9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F0E5-3D50-4AE0-A8B9-07722158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D44-1B4C-470E-B086-4306B959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28C1-B74D-4936-AC81-11269C5A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E982-C5B8-40D4-8178-05215E7D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FEC0-E3EB-41DF-AA33-2D102AA4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86ED-383B-4F1B-A362-BDA71310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C91A-30A1-42FA-8F8F-AD80813A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0BE7-5CAD-418C-98B4-8B4DC482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ECD7-9E89-46EE-B7F6-E77032E9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8C8F-36A2-4131-8513-73AC2E72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150A-9153-4A6E-AC4B-CD79076A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BC9E-30E7-402A-84AA-6CB3D78A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5102-458C-4054-A270-C0B3154F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BC23-7D62-4255-A9CF-381BEF6D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C246-DC82-401F-83CD-73ACE35E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EBFE-57A2-433C-ADF3-EB4C638E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C316-B41C-45C7-B603-FF828EA9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C405-B3C0-4024-AFE2-3B125299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1347-42C1-4465-A20D-D0D96571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3B22-1630-422E-84BA-6D958FB1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0178-A533-4A87-BA03-CE6C2E96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E113-B5AE-49C5-B0C5-5B150000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C29C-64D7-42C9-BC39-9D0323A4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E8E6-63E9-444B-879D-CB88BCF7B2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47B6-3C1C-47D1-B280-245B330E59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Memory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14400" y="327024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STM to the LTM and bac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5" descr="brain. fotosearch &#10;- search clipart, &#10;illustration, &#10;drawings and vector &#10;eps graphics images"/>
          <p:cNvPicPr/>
          <p:nvPr/>
        </p:nvPicPr>
        <p:blipFill>
          <a:blip r:embed="rId1"/>
          <a:stretch/>
        </p:blipFill>
        <p:spPr>
          <a:xfrm>
            <a:off x="3809880" y="4038480"/>
            <a:ext cx="158112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hort Term Memor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called “working memory” because it is what is being currently process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*CAN HOLD—what is said in 1.5—2 seco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*LASTS—15-20 seconds and then forgot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hort Term Memory continued…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unking” helps with memory because it groups information into meaningful units to be better remember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—phone numbers, social security #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cre 01. fotosearch &#10;- search clipart, &#10;illustration, &#10;drawings and vector &#10;eps graphics images"/>
          <p:cNvPicPr/>
          <p:nvPr/>
        </p:nvPicPr>
        <p:blipFill>
          <a:blip r:embed="rId1"/>
          <a:stretch/>
        </p:blipFill>
        <p:spPr>
          <a:xfrm>
            <a:off x="2590920" y="4191120"/>
            <a:ext cx="380988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(En)coding 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in the STM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: how we store info to remember it later!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Most people cod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honologicall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coustically), or by the way it SOUND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ing can be don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isuall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or by the way it LOO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: maps, paintings, pic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d0d0d"/>
                </a:solidFill>
                <a:uFillTx/>
                <a:latin typeface="Verdana"/>
              </a:rPr>
              <a:t>Semantically</a:t>
            </a:r>
            <a:r>
              <a:rPr b="0" lang="en-US" sz="2800" spc="-1" strike="noStrike">
                <a:solidFill>
                  <a:srgbClr val="0d0d0d"/>
                </a:solidFill>
                <a:latin typeface="Verdana"/>
              </a:rPr>
              <a:t> – coded by meaning (transform sounds or visual images into recognizable word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9" descr="map. fotosearch &#10;- search clipart, &#10;illustration, &#10;drawings and vector &#10;eps graphics images"/>
          <p:cNvPicPr/>
          <p:nvPr/>
        </p:nvPicPr>
        <p:blipFill>
          <a:blip r:embed="rId1"/>
          <a:stretch/>
        </p:blipFill>
        <p:spPr>
          <a:xfrm>
            <a:off x="7848720" y="2514600"/>
            <a:ext cx="1054080" cy="1828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treasure map. &#10;fotosearch - search &#10;clipart, illustration, &#10;drawings and vector &#10;eps graphics images"/>
          <p:cNvPicPr/>
          <p:nvPr/>
        </p:nvPicPr>
        <p:blipFill>
          <a:blip r:embed="rId2"/>
          <a:stretch/>
        </p:blipFill>
        <p:spPr>
          <a:xfrm>
            <a:off x="5105520" y="4992840"/>
            <a:ext cx="224784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membering…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Rote Rehearsal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peating information over and over. Brain will only hold this information for a few minutes </a:t>
            </a:r>
            <a:r>
              <a:rPr b="0" i="1" lang="en-US" sz="2800" spc="-1" strike="noStrike">
                <a:solidFill>
                  <a:srgbClr val="c00000"/>
                </a:solidFill>
                <a:latin typeface="Verdana"/>
              </a:rPr>
              <a:t>(not the best way to study!!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laborative Rehearsal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lating new information to something you already know/understand (making links). This sends the info from STM to LT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: </a:t>
            </a:r>
            <a:r>
              <a:rPr b="0" lang="en-US" sz="2400" spc="-1" strike="noStrike">
                <a:solidFill>
                  <a:srgbClr val="c00000"/>
                </a:solidFill>
                <a:latin typeface="Verdana"/>
              </a:rPr>
              <a:t>R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b050"/>
                </a:solidFill>
                <a:latin typeface="Verdan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400" spc="-1" strike="noStrike">
                <a:solidFill>
                  <a:srgbClr val="203ea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7030a0"/>
                </a:solidFill>
                <a:latin typeface="Verdan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4" descr="brain. fotosearch &#10;- search clipart, &#10;illustration, &#10;drawings and vector &#10;eps graphics images"/>
          <p:cNvPicPr/>
          <p:nvPr/>
        </p:nvPicPr>
        <p:blipFill>
          <a:blip r:embed="rId1"/>
          <a:stretch/>
        </p:blipFill>
        <p:spPr>
          <a:xfrm>
            <a:off x="7238880" y="4952880"/>
            <a:ext cx="11638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orgetting…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ay theory—passing of time decreases the strength of the memory, especially if not recalled for a long whi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ference theory—interference from other info causes memories to be mixed up/ pushed asid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—Fall Semester (Bio) vs. Spring Semester (Che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ong Term Memory…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filing cabinets store memo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mantic—stores general facts and info (learned stuff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pisodic—stores specific information with personal meaning (personal experiences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licit—info you never intended to remember (random facts, “stupid stuff you know”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filing cabinet. &#10;fotosearch - search &#10;clipart, illustration, &#10;drawings and vector &#10;eps graphics images"/>
          <p:cNvPicPr/>
          <p:nvPr/>
        </p:nvPicPr>
        <p:blipFill>
          <a:blip r:embed="rId1"/>
          <a:stretch/>
        </p:blipFill>
        <p:spPr>
          <a:xfrm>
            <a:off x="7620120" y="3657600"/>
            <a:ext cx="1314360" cy="2857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file folder color. &#10;fotosearch - search &#10;clipart, illustration, &#10;drawings and vector &#10;eps graphics images"/>
          <p:cNvPicPr/>
          <p:nvPr/>
        </p:nvPicPr>
        <p:blipFill>
          <a:blip r:embed="rId2"/>
          <a:stretch/>
        </p:blipFill>
        <p:spPr>
          <a:xfrm>
            <a:off x="228600" y="3429000"/>
            <a:ext cx="182880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(En)coding </a:t>
            </a: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in the LTM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…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encode three way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By mean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remember overall meaning but not small detail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—”The Moral of the Story is…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Non-verb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oded in non-verbal images—like smells, tastes, sound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—familiar voice on phone, smell of a rose, shape of Florid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Verbati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—word for word memories—mostly very familiar thing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—the Pledg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utting it all together…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240" y="-72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609480" y="2057400"/>
          <a:ext cx="8534520" cy="36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853452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7:34:51Z</dcterms:created>
  <dc:creator> </dc:creator>
  <dc:description/>
  <dc:language>en-US</dc:language>
  <cp:lastModifiedBy>John Hampton</cp:lastModifiedBy>
  <dcterms:modified xsi:type="dcterms:W3CDTF">2012-02-23T19:14:42Z</dcterms:modified>
  <cp:revision>24</cp:revision>
  <dc:subject/>
  <dc:title>Memory </dc:title>
</cp:coreProperties>
</file>